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AAB904-0542-4516-BFB9-1B31A61513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DAB722-6306-4229-841D-838D6C37E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F3EA588-1AC6-4E77-9213-2196CD881F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07013A-0193-482D-AB04-7B76C1C7FB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AEF450-1747-48C5-89AE-C7E752B957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5EC61-192C-4879-A360-7786476E1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FD077-197D-44EC-97C1-A8864ECFC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383BC-D6A0-4548-9FE2-E2198F1B4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20132-7CEB-458D-BAE3-96F8C6426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08BE4-34D0-4E47-985F-E13E8F6A1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BF554-26DE-4996-9591-55908F026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59A507-4994-4D35-B21E-19BD5FEEB3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1B99A-F1FD-4EFE-A171-BBC7F36CD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B3D9B-CEA3-4105-AC27-3799824CB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886CA-A095-481E-A06B-27BFB6D3E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386C3-C181-435D-B39D-3BFF415B4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2ADFE-728F-4E64-85D7-CAA97710C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BFA5A9-931E-403B-B343-477515CD96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3B57E2-1475-461E-B211-7A589A9CD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87294E-BFDA-4476-A806-6F112FF86A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304353-52ED-478E-B030-BEC8FC1379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FA01A5-4C96-4C93-97CE-98ADB940F0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C1F98D-A41F-49FD-8934-2EEF66EA7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561DF1-8A8F-47D2-9286-C53113DDA89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4869F-A5F9-4C73-A26C-88A1826372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4D47C-A796-47F4-A04A-7DA38052F5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apitalism and it’s History in Canada</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What is Capitalism?</a:t>
            </a: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What are the differences?</a:t>
            </a: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fontScale="90000"/>
          </a:bodyPr>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Market Economy</a:t>
            </a:r>
            <a:r>
              <a:rPr b="0" lang="en-US" sz="3200" spc="-1" strike="noStrike">
                <a:solidFill>
                  <a:srgbClr val="000000"/>
                </a:solidFill>
                <a:latin typeface="Arial"/>
              </a:rPr>
              <a:t> - also known as a capitalist economy, consumers influence the market through their demand and ability to purchase goods and services. There is very little government intervention.</a:t>
            </a:r>
            <a:endParaRPr b="0" lang="en-US" sz="3200" spc="-1" strike="noStrike">
              <a:solidFill>
                <a:srgbClr val="000000"/>
              </a:solidFill>
              <a:latin typeface="Arial"/>
            </a:endParaRPr>
          </a:p>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ers are motivated by profit and therefore consumers purchasing patterns determine what goods and services are produced.</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990360"/>
            <a:ext cx="8229600" cy="3886200"/>
          </a:xfrm>
          <a:prstGeom prst="rect">
            <a:avLst/>
          </a:prstGeom>
          <a:noFill/>
          <a:ln w="0">
            <a:noFill/>
          </a:ln>
        </p:spPr>
        <p:txBody>
          <a:bodyPr lIns="90000" rIns="90000" tIns="46800" bIns="46800" anchor="t">
            <a:normAutofit fontScale="84000"/>
          </a:bodyPr>
          <a:p>
            <a:pPr marL="288000" indent="-2880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Former Soviet Union was a Planned/Command Economy</a:t>
            </a:r>
            <a:r>
              <a:rPr b="0" lang="en-US" sz="3200" spc="-1" strike="noStrike">
                <a:solidFill>
                  <a:srgbClr val="000000"/>
                </a:solidFill>
                <a:latin typeface="Arial"/>
              </a:rPr>
              <a:t>.  The government leaders were responsible for making economic decisions. Resources are owned and controlled by the government.</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288000" indent="-2880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t>
            </a:r>
            <a:r>
              <a:rPr b="0" lang="en-US" sz="3200" spc="-1" strike="noStrike">
                <a:solidFill>
                  <a:srgbClr val="3333cc"/>
                </a:solidFill>
                <a:latin typeface="Arial"/>
              </a:rPr>
              <a:t>traditional economies</a:t>
            </a:r>
            <a:r>
              <a:rPr b="0" lang="en-US" sz="3200" spc="-1" strike="noStrike">
                <a:solidFill>
                  <a:srgbClr val="000000"/>
                </a:solidFill>
                <a:latin typeface="Arial"/>
              </a:rPr>
              <a:t> the four basic questions are based on past practice. Collective decision making occur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Key Features of Capitalism</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 for profits</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Ownership</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untary Exchange</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 Enterprise</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esources for required for Capitalism</a:t>
            </a:r>
            <a:endParaRPr b="0" lang="en-US" sz="36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Resources</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Resources</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 Resources</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epreneurial Resources</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38088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Based on the handout “</a:t>
            </a:r>
            <a:r>
              <a:rPr b="1" lang="en-US" sz="4000" spc="-1" strike="noStrike">
                <a:solidFill>
                  <a:srgbClr val="3333cc"/>
                </a:solidFill>
                <a:latin typeface="Arial"/>
              </a:rPr>
              <a:t>Capitalism</a:t>
            </a:r>
            <a:r>
              <a:rPr b="0" lang="en-US" sz="4000" spc="-1" strike="noStrike">
                <a:solidFill>
                  <a:srgbClr val="3333cc"/>
                </a:solidFill>
                <a:latin typeface="Arial"/>
              </a:rPr>
              <a:t>”</a:t>
            </a:r>
            <a:endParaRPr b="0" lang="en-US" sz="4000" spc="-1" strike="noStrike">
              <a:solidFill>
                <a:srgbClr val="000000"/>
              </a:solidFill>
              <a:latin typeface="Arial"/>
            </a:endParaRPr>
          </a:p>
        </p:txBody>
      </p:sp>
      <p:sp>
        <p:nvSpPr>
          <p:cNvPr id="133" name="PlaceHolder 2"/>
          <p:cNvSpPr>
            <a:spLocks noGrp="1"/>
          </p:cNvSpPr>
          <p:nvPr>
            <p:ph/>
          </p:nvPr>
        </p:nvSpPr>
        <p:spPr>
          <a:xfrm>
            <a:off x="533520" y="159984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examples of all four types of resources used to create the following produc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r of Apple Sau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shir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plan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Differences in Capitalist Society</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difference between businesses in a capitalist society is whether they provide goods or ser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Government Involvement</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Economy does have elements of Command Economics and Traditional Economic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plans and budgets spending</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areas of the country resemble a Traditional Econom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Mixed Economy</a:t>
            </a:r>
            <a:endParaRPr b="0" lang="en-US" sz="4400" spc="-1" strike="noStrike">
              <a:solidFill>
                <a:srgbClr val="000000"/>
              </a:solidFill>
              <a:latin typeface="Arial"/>
            </a:endParaRPr>
          </a:p>
        </p:txBody>
      </p:sp>
      <p:sp>
        <p:nvSpPr>
          <p:cNvPr id="139"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US Economy is best described as a Capitalist society, the correct definition of its economic system is to call it a Mixed Market Economy.</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Canada also falls under the Mixed Market Economy as well.</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elements making this a mixed-market economy?</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cc"/>
                </a:solidFill>
                <a:uFillTx/>
                <a:latin typeface="Arial"/>
              </a:rPr>
              <a:t>Conclusion</a:t>
            </a:r>
            <a:endParaRPr b="0" lang="en-US" sz="4400" spc="-1" strike="noStrike">
              <a:solidFill>
                <a:srgbClr val="000000"/>
              </a:solidFill>
              <a:latin typeface="Arial"/>
            </a:endParaRPr>
          </a:p>
        </p:txBody>
      </p:sp>
      <p:sp>
        <p:nvSpPr>
          <p:cNvPr id="141"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ism:</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n economic paradigm: </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the capacity to produce goods and services are owned and controlled by individuals or groups; and </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the market place is used to make decisions about how the basic economic questions are answered for individuals and society: </a:t>
            </a:r>
            <a:endParaRPr b="0" lang="en-US" sz="24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goods &amp; services should be produced? </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should society go about producing goods &amp; services? </a:t>
            </a:r>
            <a:endParaRPr b="0" lang="en-US" sz="2000" spc="-1" strike="noStrike">
              <a:solidFill>
                <a:srgbClr val="000000"/>
              </a:solidFill>
              <a:latin typeface="Arial"/>
            </a:endParaRPr>
          </a:p>
          <a:p>
            <a:pPr lvl="3" marL="1600200" indent="-2286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whom should these goods and services be produc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33520" y="12189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ism is based 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initiativ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etition,</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ownership of property</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es respond to the demands of goods and services by the consum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istory of Capitalism in Canada</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askatchewan had a unique set of resources which had the potential to support an agricultural economy.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eople who originally settled in Western Canada came here with the intent of creating a better life for themselv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10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he E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History cont.</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y had both political and economic criteria for what they would consider an improved standard of living: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right to live their lives according to their personal conscience;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right to be independent and autonomous decision makers socially and politically;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right to own their own property; and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right to accumulate wealth and pass it on to their child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33cc"/>
                </a:solidFill>
                <a:latin typeface="Arial"/>
              </a:rPr>
              <a:t>Capitalism in Canada </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st Canadians accepted a capitalistic economic system.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economic decision making system which came to dominate Canada in the early twentieth century was the market system of economic decision ma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cc"/>
                </a:solidFill>
                <a:latin typeface="Arial"/>
              </a:rPr>
              <a:t>The Market System Was Selected Because It Suited:</a:t>
            </a:r>
            <a:endParaRPr b="0" lang="en-US" sz="4000" spc="-1" strike="noStrike">
              <a:solidFill>
                <a:srgbClr val="000000"/>
              </a:solidFill>
              <a:latin typeface="Arial"/>
            </a:endParaRPr>
          </a:p>
        </p:txBody>
      </p:sp>
      <p:sp>
        <p:nvSpPr>
          <p:cNvPr id="115" name="PlaceHolder 2"/>
          <p:cNvSpPr>
            <a:spLocks noGrp="1"/>
          </p:cNvSpPr>
          <p:nvPr>
            <p:ph/>
          </p:nvPr>
        </p:nvSpPr>
        <p:spPr>
          <a:xfrm>
            <a:off x="837720" y="2438280"/>
            <a:ext cx="7620120" cy="28958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apitalistic economic paradigm;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liberal democratic political paradigm; as well as th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eographic and social realities of the western Canadian fronti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5640" y="380520"/>
            <a:ext cx="5181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What is Capitalism?</a:t>
            </a:r>
            <a:endParaRPr b="0" lang="en-US" sz="4400" spc="-1" strike="noStrike">
              <a:solidFill>
                <a:srgbClr val="000000"/>
              </a:solidFill>
              <a:latin typeface="Arial"/>
            </a:endParaRPr>
          </a:p>
        </p:txBody>
      </p:sp>
      <p:sp>
        <p:nvSpPr>
          <p:cNvPr id="117" name="PlaceHolder 2"/>
          <p:cNvSpPr>
            <a:spLocks noGrp="1"/>
          </p:cNvSpPr>
          <p:nvPr>
            <p:ph/>
          </p:nvPr>
        </p:nvSpPr>
        <p:spPr>
          <a:xfrm>
            <a:off x="380880" y="1219320"/>
            <a:ext cx="8229600" cy="3581280"/>
          </a:xfrm>
          <a:prstGeom prst="rect">
            <a:avLst/>
          </a:prstGeom>
          <a:noFill/>
          <a:ln w="0">
            <a:noFill/>
          </a:ln>
        </p:spPr>
        <p:txBody>
          <a:bodyPr lIns="90000" rIns="90000" tIns="46800" bIns="46800" anchor="t">
            <a:normAutofit fontScale="85000"/>
          </a:bodyPr>
          <a:p>
            <a:pPr marL="518040" indent="-518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ism is an economic paradigm: </a:t>
            </a:r>
            <a:endParaRPr b="0" lang="en-US" sz="3200" spc="-1" strike="noStrike">
              <a:solidFill>
                <a:srgbClr val="000000"/>
              </a:solidFill>
              <a:latin typeface="Arial"/>
            </a:endParaRPr>
          </a:p>
          <a:p>
            <a:pPr lvl="2" marL="1165680" indent="-38844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the capacity to produce goods and services are owned and controlled by individuals or groups; and </a:t>
            </a:r>
            <a:endParaRPr b="0" lang="en-US" sz="2400" spc="-1" strike="noStrike">
              <a:solidFill>
                <a:srgbClr val="000000"/>
              </a:solidFill>
              <a:latin typeface="Arial"/>
            </a:endParaRPr>
          </a:p>
          <a:p>
            <a:pPr lvl="2" marL="1165680" indent="-38844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the market place is used to make decisions about how the basic economic questions are answered for individuals and society: </a:t>
            </a:r>
            <a:endParaRPr b="0" lang="en-US" sz="2400" spc="-1" strike="noStrike">
              <a:solidFill>
                <a:srgbClr val="000000"/>
              </a:solidFill>
              <a:latin typeface="Arial"/>
            </a:endParaRPr>
          </a:p>
          <a:p>
            <a:pPr lvl="3" marL="1489320" indent="-323640">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goods &amp; services should be produced? </a:t>
            </a:r>
            <a:endParaRPr b="0" lang="en-US" sz="1800" spc="-1" strike="noStrike">
              <a:solidFill>
                <a:srgbClr val="000000"/>
              </a:solidFill>
              <a:latin typeface="Arial"/>
            </a:endParaRPr>
          </a:p>
          <a:p>
            <a:pPr lvl="3" marL="1489320" indent="-323640">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should society go about producing goods &amp; services? </a:t>
            </a:r>
            <a:endParaRPr b="0" lang="en-US" sz="1800" spc="-1" strike="noStrike">
              <a:solidFill>
                <a:srgbClr val="000000"/>
              </a:solidFill>
              <a:latin typeface="Arial"/>
            </a:endParaRPr>
          </a:p>
          <a:p>
            <a:pPr lvl="3" marL="1489320" indent="-323640">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whom should these goods and services be produced?</a:t>
            </a:r>
            <a:endParaRPr b="0" lang="en-US" sz="1800" spc="-1" strike="noStrike">
              <a:solidFill>
                <a:srgbClr val="000000"/>
              </a:solidFill>
              <a:latin typeface="Arial"/>
            </a:endParaRPr>
          </a:p>
          <a:p>
            <a:pPr lvl="3" marL="1489320" indent="-323640">
              <a:spcBef>
                <a:spcPts val="45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 decides what, how, and for whom goods and services will be produced?</a:t>
            </a:r>
            <a:endParaRPr b="0" lang="en-US" sz="1800" spc="-1" strike="noStrike">
              <a:solidFill>
                <a:srgbClr val="000000"/>
              </a:solidFill>
              <a:latin typeface="Arial"/>
            </a:endParaRPr>
          </a:p>
        </p:txBody>
      </p:sp>
      <p:sp>
        <p:nvSpPr>
          <p:cNvPr id="118" name="">
            <a:hlinkClick r:id="" action="ppaction://hlinkshowjump?jump=previousslide"/>
          </p:cNvPr>
          <p:cNvSpPr/>
          <p:nvPr/>
        </p:nvSpPr>
        <p:spPr>
          <a:xfrm>
            <a:off x="8001000" y="57913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7493"/>
                </a:moveTo>
                <a:lnTo>
                  <a:pt x="11625" y="7493"/>
                </a:lnTo>
                <a:lnTo>
                  <a:pt x="11625" y="12828"/>
                </a:lnTo>
                <a:cubicBezTo>
                  <a:pt x="11625" y="13751"/>
                  <a:pt x="12426" y="14482"/>
                  <a:pt x="13462" y="14482"/>
                </a:cubicBezTo>
                <a:lnTo>
                  <a:pt x="15124" y="14482"/>
                </a:lnTo>
                <a:cubicBezTo>
                  <a:pt x="16160" y="14482"/>
                  <a:pt x="16961" y="13751"/>
                  <a:pt x="16961" y="12828"/>
                </a:cubicBezTo>
                <a:lnTo>
                  <a:pt x="16961" y="7493"/>
                </a:lnTo>
                <a:lnTo>
                  <a:pt x="15124" y="7493"/>
                </a:lnTo>
                <a:lnTo>
                  <a:pt x="18632" y="3985"/>
                </a:lnTo>
                <a:lnTo>
                  <a:pt x="22305" y="7493"/>
                </a:lnTo>
                <a:lnTo>
                  <a:pt x="20468" y="7493"/>
                </a:lnTo>
                <a:lnTo>
                  <a:pt x="20468" y="12828"/>
                </a:lnTo>
                <a:cubicBezTo>
                  <a:pt x="20468" y="15596"/>
                  <a:pt x="17892" y="18155"/>
                  <a:pt x="15124" y="18155"/>
                </a:cubicBezTo>
                <a:lnTo>
                  <a:pt x="13462" y="18155"/>
                </a:lnTo>
                <a:cubicBezTo>
                  <a:pt x="10694" y="18155"/>
                  <a:pt x="8118" y="15596"/>
                  <a:pt x="8118"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apitalism or Not?</a:t>
            </a:r>
            <a:endParaRPr b="0" lang="en-US" sz="4400" spc="-1" strike="noStrike">
              <a:solidFill>
                <a:srgbClr val="000000"/>
              </a:solidFill>
              <a:latin typeface="Arial"/>
            </a:endParaRPr>
          </a:p>
        </p:txBody>
      </p:sp>
      <p:sp>
        <p:nvSpPr>
          <p:cNvPr id="120" name="PlaceHolder 2"/>
          <p:cNvSpPr>
            <a:spLocks noGrp="1"/>
          </p:cNvSpPr>
          <p:nvPr>
            <p:ph/>
          </p:nvPr>
        </p:nvSpPr>
        <p:spPr>
          <a:xfrm>
            <a:off x="457200" y="1676160"/>
            <a:ext cx="8229600" cy="3886200"/>
          </a:xfrm>
          <a:prstGeom prst="rect">
            <a:avLst/>
          </a:prstGeom>
          <a:noFill/>
          <a:ln w="0">
            <a:noFill/>
          </a:ln>
        </p:spPr>
        <p:txBody>
          <a:bodyPr lIns="90000" rIns="90000" tIns="46800" bIns="46800" anchor="t">
            <a:normAutofit fontScale="90000"/>
          </a:bodyPr>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definition of capitalism.</a:t>
            </a:r>
            <a:endParaRPr b="0" lang="en-US" sz="3200" spc="-1" strike="noStrike">
              <a:solidFill>
                <a:srgbClr val="000000"/>
              </a:solidFill>
              <a:latin typeface="Arial"/>
            </a:endParaRPr>
          </a:p>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rother and sister want to sell popcorn during minor hockey games this winter. They ask the league officials for permission. The officials tell them they can sell popcorn, but the pocorn must be buttered and plain in paper bags, and for no more than a $.05 profit per bag.</a:t>
            </a:r>
            <a:endParaRPr b="0" lang="en-US" sz="3200" spc="-1" strike="noStrike">
              <a:solidFill>
                <a:srgbClr val="000000"/>
              </a:solidFill>
              <a:latin typeface="Arial"/>
            </a:endParaRPr>
          </a:p>
          <a:p>
            <a:pPr marL="308520" indent="-3085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is an example of capitalism?</a:t>
            </a:r>
            <a:endParaRPr b="0" lang="en-US" sz="3200" spc="-1" strike="noStrike">
              <a:solidFill>
                <a:srgbClr val="000000"/>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Group Discussion</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the United States of America is often described as a capitalist socie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the two part definition of </a:t>
            </a:r>
            <a:r>
              <a:rPr b="0" lang="en-US" sz="3200" spc="-1" strike="noStrike" u="sng">
                <a:solidFill>
                  <a:srgbClr val="666699"/>
                </a:solidFill>
                <a:uFillTx/>
                <a:latin typeface="Arial"/>
                <a:hlinkClick r:id="rId1" action="ppaction://hlinksldjump"/>
              </a:rPr>
              <a:t>Capitalism</a:t>
            </a:r>
            <a:r>
              <a:rPr b="0" lang="en-US" sz="3200" spc="-1" strike="noStrike" u="sng">
                <a:solidFill>
                  <a:srgbClr val="000000"/>
                </a:solidFill>
                <a:uFillTx/>
                <a:latin typeface="Arial"/>
              </a:rPr>
              <a:t>, work in your groups to provide and example of both parts of the defini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omparing Economic Systems</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Economy</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ed (Command) Economy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al Economy</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xed Economy</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See Worksheet 1 for definition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6:12:34Z</dcterms:created>
  <dc:creator>gardnersc</dc:creator>
  <dc:description/>
  <dc:language>en-US</dc:language>
  <cp:lastModifiedBy>Roland Bear</cp:lastModifiedBy>
  <dcterms:modified xsi:type="dcterms:W3CDTF">2006-04-11T20:29:41Z</dcterms:modified>
  <cp:revision>8</cp:revision>
  <dc:subject/>
  <dc:title>Capitalism</dc:title>
</cp:coreProperties>
</file>